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camera.wav" ContentType="audio/x-wav"/>
  <Override PartName="/ppt/media/image8.png" ContentType="image/png"/>
  <Override PartName="/ppt/media/image29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E08-BF2B-4A41-A68B-4B6C429A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4FC-825B-4609-A14C-6C98F025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736-9633-44C5-BA15-CC1ABFFB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949-0752-45B4-8DD0-0C1E34FC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F16C-1597-4B2B-B1B0-25703A2C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DE6A-592F-4D98-85AF-408A0D4C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77B1-0BC7-4228-8EFF-0F62B6F8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2C12-3917-4654-A9A2-AF5D2982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8162-5625-4CD2-88DF-E7CB0AC3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6BE9-7E35-427C-AFE7-CBD594A3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0782-8675-4EE2-99BF-B0E8E1A4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3D5-620E-4C07-8205-21284CA9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B7E8-8F2B-44F8-9C66-624EE604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2D77-B1FA-4A29-9767-585D0F3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2D9C-683C-47A6-8EF4-D89C51E4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43AE-8748-4DA7-ADEC-FD001F3E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82AD-D1AE-42F8-B745-AA65B4AC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513-6582-44DD-B08B-8E0922C3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0E4-9AAF-439B-87EB-0BC2F103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2D9-C73B-47F4-BF99-E4084AF6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CCF-3963-4B48-AB8A-DA9BEE01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347-7A77-4D1D-BF28-C572B5BF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ECF-79DB-408D-833B-E13EFDB8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F58-4712-4400-BD10-23665DCD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C90A-5311-4A92-9A27-66BCE949B2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7945-28E5-4373-8A52-F4DB1F3AE6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" Target="slide2.xml"/><Relationship Id="rId5" Type="http://schemas.openxmlformats.org/officeDocument/2006/relationships/image" Target="../media/image8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" Target="slide2.xml"/><Relationship Id="rId5" Type="http://schemas.openxmlformats.org/officeDocument/2006/relationships/image" Target="../media/image26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.xml"/><Relationship Id="rId3" Type="http://schemas.openxmlformats.org/officeDocument/2006/relationships/image" Target="../media/image3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" Target="slide2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666880" y="1143000"/>
            <a:ext cx="2822760" cy="3747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581280" y="1143000"/>
            <a:ext cx="2438640" cy="3727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029200" y="1295280"/>
            <a:ext cx="2887560" cy="3861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050920" y="549360"/>
            <a:ext cx="6480360" cy="4879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68360" y="765000"/>
            <a:ext cx="8197920" cy="507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0"/>
            <a:ext cx="182880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领袖风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89480" cy="373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95680" y="4572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山舞银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20574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  <a:ea typeface="黑体"/>
              </a:rPr>
              <a:t>原驰蜡象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4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8344080" y="6058080"/>
            <a:ext cx="79992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75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238342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495680" y="380880"/>
            <a:ext cx="1981440" cy="22183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0" tIns="0" bIns="2520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ffffff"/>
                </a:solidFill>
                <a:latin typeface="Times New Roman"/>
                <a:ea typeface="华文细黑"/>
              </a:rPr>
              <a:t>欲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3352680"/>
            <a:ext cx="4038480" cy="8251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与天公试比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5638680" y="602136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6467400" y="6019920"/>
            <a:ext cx="687600" cy="306360"/>
          </a:xfrm>
          <a:custGeom>
            <a:avLst/>
            <a:gdLst>
              <a:gd name="textAreaLeft" fmla="*/ 19800 w 687600"/>
              <a:gd name="textAreaRight" fmla="*/ 667800 w 687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48" h="21600">
                <a:moveTo>
                  <a:pt x="0" y="0"/>
                </a:moveTo>
                <a:lnTo>
                  <a:pt x="48448" y="0"/>
                </a:lnTo>
                <a:lnTo>
                  <a:pt x="48448" y="21600"/>
                </a:lnTo>
                <a:lnTo>
                  <a:pt x="0" y="21600"/>
                </a:lnTo>
                <a:close/>
              </a:path>
              <a:path fill="lightenLess" w="48448" h="21600">
                <a:moveTo>
                  <a:pt x="0" y="0"/>
                </a:moveTo>
                <a:lnTo>
                  <a:pt x="48448" y="0"/>
                </a:lnTo>
                <a:lnTo>
                  <a:pt x="47048" y="1400"/>
                </a:lnTo>
                <a:lnTo>
                  <a:pt x="1400" y="1400"/>
                </a:lnTo>
                <a:close/>
              </a:path>
              <a:path fill="darken" w="48448" h="21600">
                <a:moveTo>
                  <a:pt x="48448" y="0"/>
                </a:moveTo>
                <a:lnTo>
                  <a:pt x="48448" y="21600"/>
                </a:lnTo>
                <a:lnTo>
                  <a:pt x="47048" y="20200"/>
                </a:lnTo>
                <a:lnTo>
                  <a:pt x="47048" y="1400"/>
                </a:lnTo>
                <a:close/>
              </a:path>
              <a:path fill="darkenLess" w="48448" h="21600">
                <a:moveTo>
                  <a:pt x="48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48" y="20200"/>
                </a:lnTo>
                <a:close/>
              </a:path>
              <a:path fill="lighten" w="48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48" h="21600">
                <a:moveTo>
                  <a:pt x="17217" y="10800"/>
                </a:moveTo>
                <a:lnTo>
                  <a:pt x="31230" y="3794"/>
                </a:lnTo>
                <a:lnTo>
                  <a:pt x="3123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7305840" y="601992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lastslide"/>
          </p:cNvPr>
          <p:cNvSpPr/>
          <p:nvPr/>
        </p:nvSpPr>
        <p:spPr>
          <a:xfrm>
            <a:off x="8143920" y="602136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29195" y="10800"/>
                </a:moveTo>
                <a:lnTo>
                  <a:pt x="18690" y="17806"/>
                </a:lnTo>
                <a:lnTo>
                  <a:pt x="18690" y="3794"/>
                </a:lnTo>
                <a:close/>
              </a:path>
              <a:path fill="darken" w="51393" h="21600">
                <a:moveTo>
                  <a:pt x="31041" y="3794"/>
                </a:moveTo>
                <a:lnTo>
                  <a:pt x="31041" y="17806"/>
                </a:lnTo>
                <a:lnTo>
                  <a:pt x="32703" y="17806"/>
                </a:lnTo>
                <a:lnTo>
                  <a:pt x="32703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7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09480" y="685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须晴日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220968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看红装素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388620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ccff"/>
                </a:solidFill>
                <a:latin typeface="Times New Roman"/>
                <a:ea typeface="幼圆"/>
              </a:rPr>
              <a:t>分外妖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7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375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9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5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884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3516480"/>
            <a:ext cx="4648320" cy="3341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2120" y="60948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江山如此多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8288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ccff"/>
                </a:solidFill>
                <a:latin typeface="Times New Roman"/>
                <a:ea typeface="幼圆"/>
              </a:rPr>
              <a:t>引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886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无数英雄竞折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rId4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2050920" y="1773360"/>
            <a:ext cx="5486400" cy="3438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09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7" dur="1" fill="hold">
                                    <p:stCondLst>
                                      <p:cond evt="end">
                                        <p:tn val="223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75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464160" y="2476440"/>
            <a:ext cx="2679840" cy="4381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705200" y="5734080"/>
            <a:ext cx="1771920" cy="1123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" y="152280"/>
            <a:ext cx="21337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惜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6858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ff33"/>
                </a:solidFill>
                <a:latin typeface="Times New Roman"/>
                <a:ea typeface="幼圆"/>
              </a:rPr>
              <a:t>秦皇汉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33526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略输文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6019920"/>
            <a:ext cx="685800" cy="30456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8606" y="0"/>
                </a:lnTo>
                <a:lnTo>
                  <a:pt x="0" y="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8606" y="21600"/>
                </a:lnTo>
                <a:lnTo>
                  <a:pt x="48606" y="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606" y="216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606" h="21600">
                <a:moveTo>
                  <a:pt x="20283" y="10800"/>
                </a:moveTo>
                <a:lnTo>
                  <a:pt x="32353" y="2750"/>
                </a:lnTo>
                <a:lnTo>
                  <a:pt x="32353" y="18850"/>
                </a:lnTo>
                <a:close/>
              </a:path>
              <a:path fill="darken" w="48606" h="21600">
                <a:moveTo>
                  <a:pt x="16253" y="2750"/>
                </a:moveTo>
                <a:lnTo>
                  <a:pt x="18163" y="2750"/>
                </a:lnTo>
                <a:lnTo>
                  <a:pt x="18163" y="18850"/>
                </a:lnTo>
                <a:lnTo>
                  <a:pt x="16253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1666800" y="6018120"/>
            <a:ext cx="687600" cy="306360"/>
          </a:xfrm>
          <a:custGeom>
            <a:avLst/>
            <a:gdLst>
              <a:gd name="textAreaLeft" fmla="*/ 19800 w 687600"/>
              <a:gd name="textAreaRight" fmla="*/ 667800 w 687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48" h="21600">
                <a:moveTo>
                  <a:pt x="0" y="0"/>
                </a:moveTo>
                <a:lnTo>
                  <a:pt x="48448" y="0"/>
                </a:lnTo>
                <a:lnTo>
                  <a:pt x="48448" y="21600"/>
                </a:lnTo>
                <a:lnTo>
                  <a:pt x="0" y="21600"/>
                </a:lnTo>
                <a:close/>
              </a:path>
              <a:path fill="lightenLess" w="48448" h="21600">
                <a:moveTo>
                  <a:pt x="0" y="0"/>
                </a:moveTo>
                <a:lnTo>
                  <a:pt x="48448" y="0"/>
                </a:lnTo>
                <a:lnTo>
                  <a:pt x="47048" y="1400"/>
                </a:lnTo>
                <a:lnTo>
                  <a:pt x="1400" y="1400"/>
                </a:lnTo>
                <a:close/>
              </a:path>
              <a:path fill="darken" w="48448" h="21600">
                <a:moveTo>
                  <a:pt x="48448" y="0"/>
                </a:moveTo>
                <a:lnTo>
                  <a:pt x="48448" y="21600"/>
                </a:lnTo>
                <a:lnTo>
                  <a:pt x="47048" y="20200"/>
                </a:lnTo>
                <a:lnTo>
                  <a:pt x="47048" y="1400"/>
                </a:lnTo>
                <a:close/>
              </a:path>
              <a:path fill="darkenLess" w="48448" h="21600">
                <a:moveTo>
                  <a:pt x="48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48" y="20200"/>
                </a:lnTo>
                <a:close/>
              </a:path>
              <a:path fill="lighten" w="48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48" h="21600">
                <a:moveTo>
                  <a:pt x="17217" y="10800"/>
                </a:moveTo>
                <a:lnTo>
                  <a:pt x="31230" y="3794"/>
                </a:lnTo>
                <a:lnTo>
                  <a:pt x="3123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2505240" y="6018120"/>
            <a:ext cx="695160" cy="29232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30" h="21600">
                <a:moveTo>
                  <a:pt x="0" y="0"/>
                </a:moveTo>
                <a:lnTo>
                  <a:pt x="51330" y="0"/>
                </a:lnTo>
                <a:lnTo>
                  <a:pt x="51330" y="21600"/>
                </a:lnTo>
                <a:lnTo>
                  <a:pt x="0" y="21600"/>
                </a:lnTo>
                <a:close/>
              </a:path>
              <a:path fill="lightenLess" w="51330" h="21600">
                <a:moveTo>
                  <a:pt x="0" y="0"/>
                </a:moveTo>
                <a:lnTo>
                  <a:pt x="51330" y="0"/>
                </a:lnTo>
                <a:lnTo>
                  <a:pt x="49930" y="1400"/>
                </a:lnTo>
                <a:lnTo>
                  <a:pt x="1400" y="1400"/>
                </a:lnTo>
                <a:close/>
              </a:path>
              <a:path fill="darken" w="51330" h="21600">
                <a:moveTo>
                  <a:pt x="51330" y="0"/>
                </a:moveTo>
                <a:lnTo>
                  <a:pt x="51330" y="21600"/>
                </a:lnTo>
                <a:lnTo>
                  <a:pt x="49930" y="20200"/>
                </a:lnTo>
                <a:lnTo>
                  <a:pt x="49930" y="1400"/>
                </a:lnTo>
                <a:close/>
              </a:path>
              <a:path fill="darkenLess" w="51330" h="21600">
                <a:moveTo>
                  <a:pt x="51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30" y="20200"/>
                </a:lnTo>
                <a:close/>
              </a:path>
              <a:path fill="lighten" w="51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30" h="21600">
                <a:moveTo>
                  <a:pt x="18658" y="3794"/>
                </a:moveTo>
                <a:lnTo>
                  <a:pt x="32671" y="10800"/>
                </a:lnTo>
                <a:lnTo>
                  <a:pt x="1865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lastslide"/>
          </p:cNvPr>
          <p:cNvSpPr/>
          <p:nvPr/>
        </p:nvSpPr>
        <p:spPr>
          <a:xfrm>
            <a:off x="3343320" y="601992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29195" y="10800"/>
                </a:moveTo>
                <a:lnTo>
                  <a:pt x="18690" y="17806"/>
                </a:lnTo>
                <a:lnTo>
                  <a:pt x="18690" y="3794"/>
                </a:lnTo>
                <a:close/>
              </a:path>
              <a:path fill="darken" w="51393" h="21600">
                <a:moveTo>
                  <a:pt x="31041" y="3794"/>
                </a:moveTo>
                <a:lnTo>
                  <a:pt x="31041" y="17806"/>
                </a:lnTo>
                <a:lnTo>
                  <a:pt x="32703" y="17806"/>
                </a:lnTo>
                <a:lnTo>
                  <a:pt x="32703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75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375"/>
                            </p:stCondLst>
                            <p:childTnLst>
                              <p:par>
                                <p:cTn id="258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75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962520" cy="342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533520"/>
            <a:ext cx="4343400" cy="13129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唐宗宋祖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9810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稍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27432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ccff"/>
                </a:solidFill>
                <a:latin typeface="Times New Roman"/>
                <a:ea typeface="华文行楷"/>
              </a:rPr>
              <a:t>逊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33526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9966"/>
                </a:solidFill>
                <a:latin typeface="Times New Roman"/>
                <a:ea typeface="华文行楷"/>
              </a:rPr>
              <a:t>风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426708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66ff33"/>
                </a:solidFill>
                <a:latin typeface="Times New Roman"/>
                <a:ea typeface="华文行楷"/>
              </a:rPr>
              <a:t>骚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609480" y="59450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1438200" y="5943600"/>
            <a:ext cx="687600" cy="306360"/>
          </a:xfrm>
          <a:custGeom>
            <a:avLst/>
            <a:gdLst>
              <a:gd name="textAreaLeft" fmla="*/ 19800 w 687600"/>
              <a:gd name="textAreaRight" fmla="*/ 667800 w 687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48" h="21600">
                <a:moveTo>
                  <a:pt x="0" y="0"/>
                </a:moveTo>
                <a:lnTo>
                  <a:pt x="48448" y="0"/>
                </a:lnTo>
                <a:lnTo>
                  <a:pt x="48448" y="21600"/>
                </a:lnTo>
                <a:lnTo>
                  <a:pt x="0" y="21600"/>
                </a:lnTo>
                <a:close/>
              </a:path>
              <a:path fill="lightenLess" w="48448" h="21600">
                <a:moveTo>
                  <a:pt x="0" y="0"/>
                </a:moveTo>
                <a:lnTo>
                  <a:pt x="48448" y="0"/>
                </a:lnTo>
                <a:lnTo>
                  <a:pt x="47048" y="1400"/>
                </a:lnTo>
                <a:lnTo>
                  <a:pt x="1400" y="1400"/>
                </a:lnTo>
                <a:close/>
              </a:path>
              <a:path fill="darken" w="48448" h="21600">
                <a:moveTo>
                  <a:pt x="48448" y="0"/>
                </a:moveTo>
                <a:lnTo>
                  <a:pt x="48448" y="21600"/>
                </a:lnTo>
                <a:lnTo>
                  <a:pt x="47048" y="20200"/>
                </a:lnTo>
                <a:lnTo>
                  <a:pt x="47048" y="1400"/>
                </a:lnTo>
                <a:close/>
              </a:path>
              <a:path fill="darkenLess" w="48448" h="21600">
                <a:moveTo>
                  <a:pt x="48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48" y="20200"/>
                </a:lnTo>
                <a:close/>
              </a:path>
              <a:path fill="lighten" w="48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48" h="21600">
                <a:moveTo>
                  <a:pt x="17217" y="10800"/>
                </a:moveTo>
                <a:lnTo>
                  <a:pt x="31230" y="3794"/>
                </a:lnTo>
                <a:lnTo>
                  <a:pt x="3123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2276640" y="59436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lastslide"/>
          </p:cNvPr>
          <p:cNvSpPr/>
          <p:nvPr/>
        </p:nvSpPr>
        <p:spPr>
          <a:xfrm>
            <a:off x="3114720" y="5945040"/>
            <a:ext cx="695160" cy="29232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30" h="21600">
                <a:moveTo>
                  <a:pt x="0" y="0"/>
                </a:moveTo>
                <a:lnTo>
                  <a:pt x="51330" y="0"/>
                </a:lnTo>
                <a:lnTo>
                  <a:pt x="51330" y="21600"/>
                </a:lnTo>
                <a:lnTo>
                  <a:pt x="0" y="21600"/>
                </a:lnTo>
                <a:close/>
              </a:path>
              <a:path fill="lightenLess" w="51330" h="21600">
                <a:moveTo>
                  <a:pt x="0" y="0"/>
                </a:moveTo>
                <a:lnTo>
                  <a:pt x="51330" y="0"/>
                </a:lnTo>
                <a:lnTo>
                  <a:pt x="49930" y="1400"/>
                </a:lnTo>
                <a:lnTo>
                  <a:pt x="1400" y="1400"/>
                </a:lnTo>
                <a:close/>
              </a:path>
              <a:path fill="darken" w="51330" h="21600">
                <a:moveTo>
                  <a:pt x="51330" y="0"/>
                </a:moveTo>
                <a:lnTo>
                  <a:pt x="51330" y="21600"/>
                </a:lnTo>
                <a:lnTo>
                  <a:pt x="49930" y="20200"/>
                </a:lnTo>
                <a:lnTo>
                  <a:pt x="49930" y="1400"/>
                </a:lnTo>
                <a:close/>
              </a:path>
              <a:path fill="darkenLess" w="51330" h="21600">
                <a:moveTo>
                  <a:pt x="51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30" y="20200"/>
                </a:lnTo>
                <a:close/>
              </a:path>
              <a:path fill="lighten" w="51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30" h="21600">
                <a:moveTo>
                  <a:pt x="29164" y="10800"/>
                </a:moveTo>
                <a:lnTo>
                  <a:pt x="18658" y="17806"/>
                </a:lnTo>
                <a:lnTo>
                  <a:pt x="18658" y="3794"/>
                </a:lnTo>
                <a:close/>
              </a:path>
              <a:path fill="darken" w="51330" h="21600">
                <a:moveTo>
                  <a:pt x="31009" y="3794"/>
                </a:moveTo>
                <a:lnTo>
                  <a:pt x="31009" y="17806"/>
                </a:lnTo>
                <a:lnTo>
                  <a:pt x="32671" y="17806"/>
                </a:lnTo>
                <a:lnTo>
                  <a:pt x="32671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031720" y="3276720"/>
            <a:ext cx="4112280" cy="3352680"/>
            <a:chOff x="5031720" y="3276720"/>
            <a:chExt cx="4112280" cy="3352680"/>
          </a:xfrm>
        </p:grpSpPr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5181480" y="3276720"/>
              <a:ext cx="39625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031720" y="3413520"/>
              <a:ext cx="911880" cy="1026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宋太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" presetSubtype="3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7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575"/>
                            </p:stCondLst>
                            <p:childTnLst>
                              <p:par>
                                <p:cTn id="27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7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75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650"/>
                            </p:stCondLst>
                            <p:childTnLst>
                              <p:par>
                                <p:cTn id="2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75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725"/>
                            </p:stCondLst>
                            <p:childTnLst>
                              <p:par>
                                <p:cTn id="287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8600" y="38088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66ff33"/>
                </a:solidFill>
                <a:latin typeface="Times New Roman"/>
                <a:ea typeface="黑体"/>
              </a:rPr>
              <a:t>一代天骄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243828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成吉思汗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48769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只识弯弓射大雕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75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600"/>
                            </p:stCondLst>
                            <p:childTnLst>
                              <p:par>
                                <p:cTn id="307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7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371600" y="304812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风流人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137160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ff00"/>
                </a:solidFill>
                <a:latin typeface="Times New Roman"/>
                <a:ea typeface="黑体"/>
              </a:rPr>
              <a:t>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4343400"/>
            <a:ext cx="52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Times New Roman"/>
                <a:ea typeface="隶书"/>
              </a:rPr>
              <a:t>还</a:t>
            </a:r>
            <a:r>
              <a:rPr b="0" lang="zh-CN" sz="8800" spc="-1" strike="noStrike">
                <a:solidFill>
                  <a:srgbClr val="ffffff"/>
                </a:solidFill>
                <a:latin typeface="Times New Roman"/>
                <a:ea typeface="隶书"/>
              </a:rPr>
              <a:t>看今朝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2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0"/>
            <a:ext cx="3504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99"/>
                </a:solidFill>
                <a:latin typeface="Times New Roman"/>
                <a:ea typeface="隶书"/>
              </a:rPr>
              <a:t>俱往矣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2514600" y="457200"/>
            <a:ext cx="4605480" cy="6400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268360" y="549360"/>
            <a:ext cx="4745160" cy="5816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987640" y="765000"/>
            <a:ext cx="3786120" cy="52578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2627280" y="907920"/>
            <a:ext cx="5197680" cy="5451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1547640" y="1341360"/>
            <a:ext cx="5791320" cy="4011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1547640" y="1268280"/>
            <a:ext cx="5943600" cy="4483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44000" y="5950080"/>
            <a:ext cx="649080" cy="718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23">
                <a:moveTo>
                  <a:pt x="0" y="0"/>
                </a:moveTo>
                <a:lnTo>
                  <a:pt x="21600" y="0"/>
                </a:lnTo>
                <a:lnTo>
                  <a:pt x="21600" y="23923"/>
                </a:lnTo>
                <a:lnTo>
                  <a:pt x="0" y="23923"/>
                </a:lnTo>
                <a:close/>
              </a:path>
              <a:path fill="lightenLess" w="21600" h="239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3">
                <a:moveTo>
                  <a:pt x="21600" y="0"/>
                </a:moveTo>
                <a:lnTo>
                  <a:pt x="21600" y="23923"/>
                </a:lnTo>
                <a:lnTo>
                  <a:pt x="20200" y="22523"/>
                </a:lnTo>
                <a:lnTo>
                  <a:pt x="20200" y="1400"/>
                </a:lnTo>
                <a:close/>
              </a:path>
              <a:path fill="darkenLess" w="21600" h="23923">
                <a:moveTo>
                  <a:pt x="21600" y="23923"/>
                </a:moveTo>
                <a:lnTo>
                  <a:pt x="0" y="23923"/>
                </a:lnTo>
                <a:lnTo>
                  <a:pt x="1400" y="22523"/>
                </a:lnTo>
                <a:lnTo>
                  <a:pt x="20200" y="22523"/>
                </a:lnTo>
                <a:close/>
              </a:path>
              <a:path fill="lighten" w="21600" h="23923">
                <a:moveTo>
                  <a:pt x="0" y="239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3"/>
                </a:lnTo>
                <a:close/>
              </a:path>
              <a:path fill="darken" w="21600" h="23923">
                <a:moveTo>
                  <a:pt x="3794" y="4955"/>
                </a:moveTo>
                <a:lnTo>
                  <a:pt x="17806" y="11961"/>
                </a:lnTo>
                <a:lnTo>
                  <a:pt x="3794" y="18968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7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30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75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600"/>
                            </p:stCondLst>
                            <p:childTnLst>
                              <p:par>
                                <p:cTn id="3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5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6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6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49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600"/>
                            </p:stCondLst>
                            <p:childTnLst>
                              <p:par>
                                <p:cTn id="3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evt="end">
                                        <p:tn val="355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600"/>
                            </p:stCondLst>
                            <p:childTnLst>
                              <p:par>
                                <p:cTn id="3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evt="end">
                                        <p:tn val="361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6600"/>
                            </p:stCondLst>
                            <p:childTnLst>
                              <p:par>
                                <p:cTn id="3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0" dur="1" fill="hold">
                                    <p:stCondLst>
                                      <p:cond evt="end">
                                        <p:tn val="367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960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181480" y="1066680"/>
            <a:ext cx="33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沁   园   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219320"/>
            <a:ext cx="28195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雪</a:t>
            </a:r>
            <a:endParaRPr b="0" lang="en-US" sz="2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43434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毛  泽  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11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6165720"/>
            <a:ext cx="237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805360"/>
            <a:ext cx="28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79840" y="5229360"/>
            <a:ext cx="470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1480" y="5805360"/>
            <a:ext cx="455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900"/>
                            </p:stCondLst>
                            <p:childTnLst>
                              <p:par>
                                <p:cTn id="4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4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3492360" cy="3701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58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4498920"/>
            <a:ext cx="198108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ff"/>
                </a:solidFill>
                <a:latin typeface="Times New Roman"/>
                <a:ea typeface="隶书"/>
              </a:rPr>
              <a:t>沁园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1905120"/>
            <a:ext cx="3429000" cy="2438280"/>
          </a:xfrm>
          <a:prstGeom prst="flowChartDecis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雪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320" y="76320"/>
            <a:ext cx="9001080" cy="457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320" y="6400800"/>
            <a:ext cx="900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177840"/>
            <a:ext cx="46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词的上阕主要写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685800"/>
            <a:ext cx="39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词的上阕如何描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52720" y="26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描写北国雪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95720" y="1125360"/>
            <a:ext cx="1643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北国风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千里冰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万里雪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城内外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惟余莽莽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河上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顿失滔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山舞银蛇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驰蜡象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欲与天公试比高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须晴日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看红装素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分外妖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12682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64000" y="2421000"/>
            <a:ext cx="457200" cy="2361960"/>
          </a:xfrm>
          <a:custGeom>
            <a:avLst/>
            <a:gdLst>
              <a:gd name="textAreaLeft" fmla="*/ 0 w 457200"/>
              <a:gd name="textAreaRight" fmla="*/ 164880 w 4572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92360" y="494172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62440" y="1268280"/>
            <a:ext cx="1033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总 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86000" y="2349360"/>
            <a:ext cx="729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分写（具  体 描  写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3720" y="4653000"/>
            <a:ext cx="10335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展开想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1341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雄伟壮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64000" y="2421000"/>
            <a:ext cx="20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形象鲜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动静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生机勃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4653000"/>
            <a:ext cx="18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意境壮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6095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6148440"/>
            <a:ext cx="51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2349360"/>
            <a:ext cx="457200" cy="2362320"/>
          </a:xfrm>
          <a:custGeom>
            <a:avLst/>
            <a:gdLst>
              <a:gd name="textAreaLeft" fmla="*/ 0 w 457200"/>
              <a:gd name="textAreaRight" fmla="*/ 164880 w 4572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4869000"/>
            <a:ext cx="457200" cy="1143000"/>
          </a:xfrm>
          <a:custGeom>
            <a:avLst/>
            <a:gdLst>
              <a:gd name="textAreaLeft" fmla="*/ 0 w 457200"/>
              <a:gd name="textAreaRight" fmla="*/ 164880 w 4572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919280" y="306864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947720" y="501336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165720"/>
            <a:ext cx="277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上阕表现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27280" y="6237360"/>
            <a:ext cx="62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赞美祖国大好河山，表达对祖国的热爱之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732720" y="2133720"/>
            <a:ext cx="187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词精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褒有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6160" y="472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明主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189000"/>
            <a:ext cx="65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下阕写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1015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评古论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5589720"/>
            <a:ext cx="57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表现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6093000"/>
            <a:ext cx="99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评析千秋历史功过，抒发自己的宏伟抱负和坚定信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205000"/>
            <a:ext cx="23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如何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84360" y="620640"/>
            <a:ext cx="3614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山如此多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无数英雄竞折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秦始皇汉武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略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采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唐宗宋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稍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风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代天骄，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吉思汗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识弯弓射大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俱往矣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风流人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看今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91440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167652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457200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45360" y="1000080"/>
            <a:ext cx="19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承上启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ubRRectCallout"/>
          <p:cNvSpPr/>
          <p:nvPr/>
        </p:nvSpPr>
        <p:spPr>
          <a:xfrm>
            <a:off x="-396720" y="260280"/>
            <a:ext cx="8893080" cy="1524240"/>
          </a:xfrm>
          <a:custGeom>
            <a:avLst/>
            <a:gdLst>
              <a:gd name="textAreaLeft" fmla="*/ 59400 w 8893080"/>
              <a:gd name="textAreaRight" fmla="*/ 8814600 w 8893080"/>
              <a:gd name="textAreaTop" fmla="*/ 10080 h 1524240"/>
              <a:gd name="textAreaBottom" fmla="*/ 1207080 h 152424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惜”中含褒：肯定他们都是中华豪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惜”中带贬：批评他们短于文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惜”中寓志：自信今天的无产阶级革命英雄必将胜过前人 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4221000"/>
            <a:ext cx="2521080" cy="1081080"/>
          </a:xfrm>
          <a:prstGeom prst="wedgeRectCallout">
            <a:avLst>
              <a:gd name="adj1" fmla="val -78462"/>
              <a:gd name="adj2" fmla="val 526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苍茫大地，谁主沉浮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6680" y="380880"/>
            <a:ext cx="437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9900"/>
                </a:solidFill>
                <a:latin typeface="Times New Roman"/>
                <a:ea typeface="隶书"/>
              </a:rPr>
              <a:t>人生感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5000" y="1752480"/>
            <a:ext cx="761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黑体"/>
              </a:rPr>
              <a:t>自信，自励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5000" y="3886200"/>
            <a:ext cx="761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黑体"/>
              </a:rPr>
              <a:t>做时代骄子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26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049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 rot="5400000">
            <a:off x="1402560" y="1341000"/>
            <a:ext cx="4537080" cy="30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再见</a:t>
            </a:r>
            <a:endParaRPr b="0" lang="en-US" sz="40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strips dir="ru"/>
    <p:sndAc>
      <p:stSnd>
        <p:snd r:embed="rId3" name="camera.wav"/>
      </p:stSnd>
    </p:sndAc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6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1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了解作者及写作背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熟读背诵中感知形象、体会意境，      深入理解作者的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透过词中所描写的壮美河山，感受诗人的豪迈大气，激发自己为民族复兴而努力奋斗的豪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733920" y="0"/>
            <a:ext cx="5410080" cy="13734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3500000"/>
          </a:gradFill>
          <a:ln w="954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沁园春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雪》写于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936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月。遵义会议确立了毛泽东同志在全党的领导地位。毛泽东同志率领长征部队胜利到达陕北之后，领导全党展开了反抗日本帝国主义的伟大斗争。在陕北清涧县，毛泽东同志曾于一场大雪之后攀登到海拔千米、白雪覆盖的塬上视察地形，欣赏“北国风光”，过后写下了这首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886200"/>
            <a:ext cx="914400" cy="825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221000"/>
            <a:ext cx="914400" cy="825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525920"/>
            <a:ext cx="838080" cy="825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4830840"/>
            <a:ext cx="914400" cy="825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60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28600" y="228600"/>
            <a:ext cx="3505320" cy="321480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539640" y="6093000"/>
            <a:ext cx="685800" cy="30456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8606" y="0"/>
                </a:lnTo>
                <a:lnTo>
                  <a:pt x="0" y="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8606" y="21600"/>
                </a:lnTo>
                <a:lnTo>
                  <a:pt x="48606" y="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606" y="216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606" h="21600">
                <a:moveTo>
                  <a:pt x="20283" y="10800"/>
                </a:moveTo>
                <a:lnTo>
                  <a:pt x="32353" y="2750"/>
                </a:lnTo>
                <a:lnTo>
                  <a:pt x="32353" y="18850"/>
                </a:lnTo>
                <a:close/>
              </a:path>
              <a:path fill="darken" w="48606" h="21600">
                <a:moveTo>
                  <a:pt x="16253" y="2750"/>
                </a:moveTo>
                <a:lnTo>
                  <a:pt x="18163" y="2750"/>
                </a:lnTo>
                <a:lnTo>
                  <a:pt x="18163" y="18850"/>
                </a:lnTo>
                <a:lnTo>
                  <a:pt x="16253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1332000" y="60930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2200320" y="609444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lastslide"/>
          </p:cNvPr>
          <p:cNvSpPr/>
          <p:nvPr/>
        </p:nvSpPr>
        <p:spPr>
          <a:xfrm>
            <a:off x="3038400" y="609588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5335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  <a:ea typeface="黑体"/>
              </a:rPr>
              <a:t>北国风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59092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ff00"/>
                </a:solidFill>
                <a:latin typeface="Times New Roman"/>
                <a:ea typeface="黑体"/>
              </a:rPr>
              <a:t>千里冰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47242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33cc"/>
                </a:solidFill>
                <a:latin typeface="Times New Roman"/>
                <a:ea typeface="黑体"/>
              </a:rPr>
              <a:t>万里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472428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66ff"/>
                </a:solidFill>
                <a:latin typeface="Times New Roman"/>
                <a:ea typeface="黑体"/>
              </a:rPr>
              <a:t>飘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380880" y="6248520"/>
            <a:ext cx="685800" cy="30456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8606" y="0"/>
                </a:lnTo>
                <a:lnTo>
                  <a:pt x="0" y="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8606" y="21600"/>
                </a:lnTo>
                <a:lnTo>
                  <a:pt x="48606" y="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606" y="216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606" h="21600">
                <a:moveTo>
                  <a:pt x="20283" y="10800"/>
                </a:moveTo>
                <a:lnTo>
                  <a:pt x="32353" y="2750"/>
                </a:lnTo>
                <a:lnTo>
                  <a:pt x="32353" y="18850"/>
                </a:lnTo>
                <a:close/>
              </a:path>
              <a:path fill="darken" w="48606" h="21600">
                <a:moveTo>
                  <a:pt x="16253" y="2750"/>
                </a:moveTo>
                <a:lnTo>
                  <a:pt x="18163" y="2750"/>
                </a:lnTo>
                <a:lnTo>
                  <a:pt x="18163" y="18850"/>
                </a:lnTo>
                <a:lnTo>
                  <a:pt x="16253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1209600" y="6246720"/>
            <a:ext cx="687600" cy="306360"/>
          </a:xfrm>
          <a:custGeom>
            <a:avLst/>
            <a:gdLst>
              <a:gd name="textAreaLeft" fmla="*/ 19800 w 687600"/>
              <a:gd name="textAreaRight" fmla="*/ 667800 w 687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48" h="21600">
                <a:moveTo>
                  <a:pt x="0" y="0"/>
                </a:moveTo>
                <a:lnTo>
                  <a:pt x="48448" y="0"/>
                </a:lnTo>
                <a:lnTo>
                  <a:pt x="48448" y="21600"/>
                </a:lnTo>
                <a:lnTo>
                  <a:pt x="0" y="21600"/>
                </a:lnTo>
                <a:close/>
              </a:path>
              <a:path fill="lightenLess" w="48448" h="21600">
                <a:moveTo>
                  <a:pt x="0" y="0"/>
                </a:moveTo>
                <a:lnTo>
                  <a:pt x="48448" y="0"/>
                </a:lnTo>
                <a:lnTo>
                  <a:pt x="47048" y="1400"/>
                </a:lnTo>
                <a:lnTo>
                  <a:pt x="1400" y="1400"/>
                </a:lnTo>
                <a:close/>
              </a:path>
              <a:path fill="darken" w="48448" h="21600">
                <a:moveTo>
                  <a:pt x="48448" y="0"/>
                </a:moveTo>
                <a:lnTo>
                  <a:pt x="48448" y="21600"/>
                </a:lnTo>
                <a:lnTo>
                  <a:pt x="47048" y="20200"/>
                </a:lnTo>
                <a:lnTo>
                  <a:pt x="47048" y="1400"/>
                </a:lnTo>
                <a:close/>
              </a:path>
              <a:path fill="darkenLess" w="48448" h="21600">
                <a:moveTo>
                  <a:pt x="48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48" y="20200"/>
                </a:lnTo>
                <a:close/>
              </a:path>
              <a:path fill="lighten" w="48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48" h="21600">
                <a:moveTo>
                  <a:pt x="17217" y="10800"/>
                </a:moveTo>
                <a:lnTo>
                  <a:pt x="31230" y="3794"/>
                </a:lnTo>
                <a:lnTo>
                  <a:pt x="3123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2048040" y="6246720"/>
            <a:ext cx="695160" cy="29232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30" h="21600">
                <a:moveTo>
                  <a:pt x="0" y="0"/>
                </a:moveTo>
                <a:lnTo>
                  <a:pt x="51330" y="0"/>
                </a:lnTo>
                <a:lnTo>
                  <a:pt x="51330" y="21600"/>
                </a:lnTo>
                <a:lnTo>
                  <a:pt x="0" y="21600"/>
                </a:lnTo>
                <a:close/>
              </a:path>
              <a:path fill="lightenLess" w="51330" h="21600">
                <a:moveTo>
                  <a:pt x="0" y="0"/>
                </a:moveTo>
                <a:lnTo>
                  <a:pt x="51330" y="0"/>
                </a:lnTo>
                <a:lnTo>
                  <a:pt x="49930" y="1400"/>
                </a:lnTo>
                <a:lnTo>
                  <a:pt x="1400" y="1400"/>
                </a:lnTo>
                <a:close/>
              </a:path>
              <a:path fill="darken" w="51330" h="21600">
                <a:moveTo>
                  <a:pt x="51330" y="0"/>
                </a:moveTo>
                <a:lnTo>
                  <a:pt x="51330" y="21600"/>
                </a:lnTo>
                <a:lnTo>
                  <a:pt x="49930" y="20200"/>
                </a:lnTo>
                <a:lnTo>
                  <a:pt x="49930" y="1400"/>
                </a:lnTo>
                <a:close/>
              </a:path>
              <a:path fill="darkenLess" w="51330" h="21600">
                <a:moveTo>
                  <a:pt x="51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30" y="20200"/>
                </a:lnTo>
                <a:close/>
              </a:path>
              <a:path fill="lighten" w="51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30" h="21600">
                <a:moveTo>
                  <a:pt x="18658" y="3794"/>
                </a:moveTo>
                <a:lnTo>
                  <a:pt x="32671" y="10800"/>
                </a:lnTo>
                <a:lnTo>
                  <a:pt x="1865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2886120" y="624852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29195" y="10800"/>
                </a:moveTo>
                <a:lnTo>
                  <a:pt x="18690" y="17806"/>
                </a:lnTo>
                <a:lnTo>
                  <a:pt x="18690" y="3794"/>
                </a:lnTo>
                <a:close/>
              </a:path>
              <a:path fill="darken" w="51393" h="21600">
                <a:moveTo>
                  <a:pt x="31041" y="3794"/>
                </a:moveTo>
                <a:lnTo>
                  <a:pt x="31041" y="17806"/>
                </a:lnTo>
                <a:lnTo>
                  <a:pt x="32703" y="17806"/>
                </a:lnTo>
                <a:lnTo>
                  <a:pt x="32703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6397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380880"/>
            <a:ext cx="1676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望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838080"/>
            <a:ext cx="487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Times New Roman"/>
                <a:ea typeface="隶书"/>
              </a:rPr>
              <a:t>长城内外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971800"/>
            <a:ext cx="64771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幼圆"/>
              </a:rPr>
              <a:t>惟余莽莽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533520" y="6097680"/>
            <a:ext cx="685800" cy="30456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8606" y="0"/>
                </a:lnTo>
                <a:lnTo>
                  <a:pt x="0" y="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8606" y="21600"/>
                </a:lnTo>
                <a:lnTo>
                  <a:pt x="48606" y="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606" y="216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606" h="21600">
                <a:moveTo>
                  <a:pt x="20283" y="10800"/>
                </a:moveTo>
                <a:lnTo>
                  <a:pt x="32353" y="2750"/>
                </a:lnTo>
                <a:lnTo>
                  <a:pt x="32353" y="18850"/>
                </a:lnTo>
                <a:close/>
              </a:path>
              <a:path fill="darken" w="48606" h="21600">
                <a:moveTo>
                  <a:pt x="16253" y="2750"/>
                </a:moveTo>
                <a:lnTo>
                  <a:pt x="18163" y="2750"/>
                </a:lnTo>
                <a:lnTo>
                  <a:pt x="18163" y="18850"/>
                </a:lnTo>
                <a:lnTo>
                  <a:pt x="16253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1362240" y="609588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2200320" y="6095880"/>
            <a:ext cx="695160" cy="29232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30" h="21600">
                <a:moveTo>
                  <a:pt x="0" y="0"/>
                </a:moveTo>
                <a:lnTo>
                  <a:pt x="51330" y="0"/>
                </a:lnTo>
                <a:lnTo>
                  <a:pt x="51330" y="21600"/>
                </a:lnTo>
                <a:lnTo>
                  <a:pt x="0" y="21600"/>
                </a:lnTo>
                <a:close/>
              </a:path>
              <a:path fill="lightenLess" w="51330" h="21600">
                <a:moveTo>
                  <a:pt x="0" y="0"/>
                </a:moveTo>
                <a:lnTo>
                  <a:pt x="51330" y="0"/>
                </a:lnTo>
                <a:lnTo>
                  <a:pt x="49930" y="1400"/>
                </a:lnTo>
                <a:lnTo>
                  <a:pt x="1400" y="1400"/>
                </a:lnTo>
                <a:close/>
              </a:path>
              <a:path fill="darken" w="51330" h="21600">
                <a:moveTo>
                  <a:pt x="51330" y="0"/>
                </a:moveTo>
                <a:lnTo>
                  <a:pt x="51330" y="21600"/>
                </a:lnTo>
                <a:lnTo>
                  <a:pt x="49930" y="20200"/>
                </a:lnTo>
                <a:lnTo>
                  <a:pt x="49930" y="1400"/>
                </a:lnTo>
                <a:close/>
              </a:path>
              <a:path fill="darkenLess" w="51330" h="21600">
                <a:moveTo>
                  <a:pt x="513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30" y="20200"/>
                </a:lnTo>
                <a:close/>
              </a:path>
              <a:path fill="lighten" w="513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30" h="21600">
                <a:moveTo>
                  <a:pt x="18658" y="3794"/>
                </a:moveTo>
                <a:lnTo>
                  <a:pt x="32671" y="10800"/>
                </a:lnTo>
                <a:lnTo>
                  <a:pt x="1865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038400" y="6097680"/>
            <a:ext cx="695520" cy="29196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420" h="21600">
                <a:moveTo>
                  <a:pt x="0" y="0"/>
                </a:moveTo>
                <a:lnTo>
                  <a:pt x="51420" y="0"/>
                </a:lnTo>
                <a:lnTo>
                  <a:pt x="51420" y="21600"/>
                </a:lnTo>
                <a:lnTo>
                  <a:pt x="0" y="21600"/>
                </a:lnTo>
                <a:close/>
              </a:path>
              <a:path fill="lightenLess" w="51420" h="21600">
                <a:moveTo>
                  <a:pt x="0" y="0"/>
                </a:moveTo>
                <a:lnTo>
                  <a:pt x="51420" y="0"/>
                </a:lnTo>
                <a:lnTo>
                  <a:pt x="50020" y="1400"/>
                </a:lnTo>
                <a:lnTo>
                  <a:pt x="1400" y="1400"/>
                </a:lnTo>
                <a:close/>
              </a:path>
              <a:path fill="darken" w="51420" h="21600">
                <a:moveTo>
                  <a:pt x="51420" y="0"/>
                </a:moveTo>
                <a:lnTo>
                  <a:pt x="51420" y="21600"/>
                </a:lnTo>
                <a:lnTo>
                  <a:pt x="50020" y="20200"/>
                </a:lnTo>
                <a:lnTo>
                  <a:pt x="50020" y="1400"/>
                </a:lnTo>
                <a:close/>
              </a:path>
              <a:path fill="darkenLess" w="51420" h="21600">
                <a:moveTo>
                  <a:pt x="51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020" y="20200"/>
                </a:lnTo>
                <a:close/>
              </a:path>
              <a:path fill="lighten" w="51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420" h="21600">
                <a:moveTo>
                  <a:pt x="29209" y="10800"/>
                </a:moveTo>
                <a:lnTo>
                  <a:pt x="18703" y="17806"/>
                </a:lnTo>
                <a:lnTo>
                  <a:pt x="18703" y="3794"/>
                </a:lnTo>
                <a:close/>
              </a:path>
              <a:path fill="darken" w="51420" h="21600">
                <a:moveTo>
                  <a:pt x="31054" y="3794"/>
                </a:moveTo>
                <a:lnTo>
                  <a:pt x="31054" y="17806"/>
                </a:lnTo>
                <a:lnTo>
                  <a:pt x="32716" y="17806"/>
                </a:lnTo>
                <a:lnTo>
                  <a:pt x="32716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95280" y="685800"/>
            <a:ext cx="6248520" cy="18770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大河上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3754440"/>
            <a:ext cx="6248520" cy="18770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顿失滔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533520" y="6173640"/>
            <a:ext cx="685800" cy="304920"/>
          </a:xfrm>
          <a:custGeom>
            <a:avLst/>
            <a:gdLst>
              <a:gd name="textAreaLeft" fmla="*/ 0 w 685800"/>
              <a:gd name="textAreaRight" fmla="*/ 686160 w 6858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8549" y="0"/>
                </a:lnTo>
                <a:lnTo>
                  <a:pt x="0" y="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8549" y="21600"/>
                </a:lnTo>
                <a:lnTo>
                  <a:pt x="48549" y="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48549" y="216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  <a:path fill="darken" w="48549" h="21600">
                <a:moveTo>
                  <a:pt x="20255" y="10800"/>
                </a:moveTo>
                <a:lnTo>
                  <a:pt x="32325" y="2750"/>
                </a:lnTo>
                <a:lnTo>
                  <a:pt x="32325" y="18850"/>
                </a:lnTo>
                <a:close/>
              </a:path>
              <a:path fill="darken" w="48549" h="21600">
                <a:moveTo>
                  <a:pt x="16225" y="2750"/>
                </a:moveTo>
                <a:lnTo>
                  <a:pt x="18135" y="2750"/>
                </a:lnTo>
                <a:lnTo>
                  <a:pt x="18135" y="18850"/>
                </a:lnTo>
                <a:lnTo>
                  <a:pt x="16225" y="18850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1362240" y="6172200"/>
            <a:ext cx="687240" cy="306360"/>
          </a:xfrm>
          <a:custGeom>
            <a:avLst/>
            <a:gdLst>
              <a:gd name="textAreaLeft" fmla="*/ 19800 w 687240"/>
              <a:gd name="textAreaRight" fmla="*/ 667440 w 68724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48423" h="21600">
                <a:moveTo>
                  <a:pt x="0" y="0"/>
                </a:moveTo>
                <a:lnTo>
                  <a:pt x="48423" y="0"/>
                </a:lnTo>
                <a:lnTo>
                  <a:pt x="48423" y="21600"/>
                </a:lnTo>
                <a:lnTo>
                  <a:pt x="0" y="21600"/>
                </a:lnTo>
                <a:close/>
              </a:path>
              <a:path fill="lightenLess" w="48423" h="21600">
                <a:moveTo>
                  <a:pt x="0" y="0"/>
                </a:moveTo>
                <a:lnTo>
                  <a:pt x="48423" y="0"/>
                </a:lnTo>
                <a:lnTo>
                  <a:pt x="47023" y="1400"/>
                </a:lnTo>
                <a:lnTo>
                  <a:pt x="1400" y="1400"/>
                </a:lnTo>
                <a:close/>
              </a:path>
              <a:path fill="darken" w="48423" h="21600">
                <a:moveTo>
                  <a:pt x="48423" y="0"/>
                </a:moveTo>
                <a:lnTo>
                  <a:pt x="48423" y="21600"/>
                </a:lnTo>
                <a:lnTo>
                  <a:pt x="47023" y="20200"/>
                </a:lnTo>
                <a:lnTo>
                  <a:pt x="47023" y="1400"/>
                </a:lnTo>
                <a:close/>
              </a:path>
              <a:path fill="darkenLess" w="48423" h="21600">
                <a:moveTo>
                  <a:pt x="48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23" y="20200"/>
                </a:lnTo>
                <a:close/>
              </a:path>
              <a:path fill="lighten" w="48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23" h="21600">
                <a:moveTo>
                  <a:pt x="17205" y="10800"/>
                </a:moveTo>
                <a:lnTo>
                  <a:pt x="31218" y="3794"/>
                </a:lnTo>
                <a:lnTo>
                  <a:pt x="31218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2200320" y="6172200"/>
            <a:ext cx="695160" cy="291960"/>
          </a:xfrm>
          <a:custGeom>
            <a:avLst/>
            <a:gdLst>
              <a:gd name="textAreaLeft" fmla="*/ 18720 w 695160"/>
              <a:gd name="textAreaRight" fmla="*/ 676440 w 695160"/>
              <a:gd name="textAreaTop" fmla="*/ 18720 h 291960"/>
              <a:gd name="textAreaBottom" fmla="*/ 273240 h 291960"/>
            </a:gdLst>
            <a:ahLst/>
            <a:rect l="textAreaLeft" t="textAreaTop" r="textAreaRight" b="textAreaBottom"/>
            <a:pathLst>
              <a:path w="51393" h="21600">
                <a:moveTo>
                  <a:pt x="0" y="0"/>
                </a:moveTo>
                <a:lnTo>
                  <a:pt x="51393" y="0"/>
                </a:lnTo>
                <a:lnTo>
                  <a:pt x="51393" y="21600"/>
                </a:lnTo>
                <a:lnTo>
                  <a:pt x="0" y="21600"/>
                </a:lnTo>
                <a:close/>
              </a:path>
              <a:path fill="lightenLess" w="51393" h="21600">
                <a:moveTo>
                  <a:pt x="0" y="0"/>
                </a:moveTo>
                <a:lnTo>
                  <a:pt x="51393" y="0"/>
                </a:lnTo>
                <a:lnTo>
                  <a:pt x="49993" y="1400"/>
                </a:lnTo>
                <a:lnTo>
                  <a:pt x="1400" y="1400"/>
                </a:lnTo>
                <a:close/>
              </a:path>
              <a:path fill="darken" w="51393" h="21600">
                <a:moveTo>
                  <a:pt x="51393" y="0"/>
                </a:moveTo>
                <a:lnTo>
                  <a:pt x="51393" y="21600"/>
                </a:lnTo>
                <a:lnTo>
                  <a:pt x="49993" y="20200"/>
                </a:lnTo>
                <a:lnTo>
                  <a:pt x="49993" y="1400"/>
                </a:lnTo>
                <a:close/>
              </a:path>
              <a:path fill="darkenLess" w="51393" h="21600">
                <a:moveTo>
                  <a:pt x="51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93" y="20200"/>
                </a:lnTo>
                <a:close/>
              </a:path>
              <a:path fill="lighten" w="51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93" h="21600">
                <a:moveTo>
                  <a:pt x="18690" y="3794"/>
                </a:moveTo>
                <a:lnTo>
                  <a:pt x="32703" y="10800"/>
                </a:lnTo>
                <a:lnTo>
                  <a:pt x="18690" y="17806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lastslide"/>
          </p:cNvPr>
          <p:cNvSpPr/>
          <p:nvPr/>
        </p:nvSpPr>
        <p:spPr>
          <a:xfrm>
            <a:off x="3038400" y="6173640"/>
            <a:ext cx="695520" cy="292320"/>
          </a:xfrm>
          <a:custGeom>
            <a:avLst/>
            <a:gdLst>
              <a:gd name="textAreaLeft" fmla="*/ 18720 w 695520"/>
              <a:gd name="textAreaRight" fmla="*/ 676800 w 695520"/>
              <a:gd name="textAreaTop" fmla="*/ 18720 h 292320"/>
              <a:gd name="textAreaBottom" fmla="*/ 273600 h 292320"/>
            </a:gdLst>
            <a:ahLst/>
            <a:rect l="textAreaLeft" t="textAreaTop" r="textAreaRight" b="textAreaBottom"/>
            <a:pathLst>
              <a:path w="51356" h="21600">
                <a:moveTo>
                  <a:pt x="0" y="0"/>
                </a:moveTo>
                <a:lnTo>
                  <a:pt x="51356" y="0"/>
                </a:lnTo>
                <a:lnTo>
                  <a:pt x="51356" y="21600"/>
                </a:lnTo>
                <a:lnTo>
                  <a:pt x="0" y="21600"/>
                </a:lnTo>
                <a:close/>
              </a:path>
              <a:path fill="lightenLess" w="51356" h="21600">
                <a:moveTo>
                  <a:pt x="0" y="0"/>
                </a:moveTo>
                <a:lnTo>
                  <a:pt x="51356" y="0"/>
                </a:lnTo>
                <a:lnTo>
                  <a:pt x="49956" y="1400"/>
                </a:lnTo>
                <a:lnTo>
                  <a:pt x="1400" y="1400"/>
                </a:lnTo>
                <a:close/>
              </a:path>
              <a:path fill="darken" w="51356" h="21600">
                <a:moveTo>
                  <a:pt x="51356" y="0"/>
                </a:moveTo>
                <a:lnTo>
                  <a:pt x="51356" y="21600"/>
                </a:lnTo>
                <a:lnTo>
                  <a:pt x="49956" y="20200"/>
                </a:lnTo>
                <a:lnTo>
                  <a:pt x="49956" y="1400"/>
                </a:lnTo>
                <a:close/>
              </a:path>
              <a:path fill="darkenLess" w="51356" h="21600">
                <a:moveTo>
                  <a:pt x="513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56" y="20200"/>
                </a:lnTo>
                <a:close/>
              </a:path>
              <a:path fill="lighten" w="513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56" h="21600">
                <a:moveTo>
                  <a:pt x="29177" y="10800"/>
                </a:moveTo>
                <a:lnTo>
                  <a:pt x="18672" y="17806"/>
                </a:lnTo>
                <a:lnTo>
                  <a:pt x="18672" y="3794"/>
                </a:lnTo>
                <a:close/>
              </a:path>
              <a:path fill="darken" w="51356" h="21600">
                <a:moveTo>
                  <a:pt x="31022" y="3794"/>
                </a:moveTo>
                <a:lnTo>
                  <a:pt x="31022" y="17806"/>
                </a:lnTo>
                <a:lnTo>
                  <a:pt x="32685" y="17806"/>
                </a:lnTo>
                <a:lnTo>
                  <a:pt x="32685" y="3794"/>
                </a:lnTo>
                <a:close/>
              </a:path>
            </a:pathLst>
          </a:cu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75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2:20:13Z</dcterms:created>
  <dc:creator>姚勤智</dc:creator>
  <dc:description/>
  <dc:language>en-US</dc:language>
  <cp:lastModifiedBy>微软用户</cp:lastModifiedBy>
  <dcterms:modified xsi:type="dcterms:W3CDTF">2010-09-04T09:38:10Z</dcterms:modified>
  <cp:revision>432</cp:revision>
  <dc:subject/>
  <dc:title>PowerPoint 演示文稿</dc:title>
</cp:coreProperties>
</file>